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D6C-6C10-4932-8EDD-01096F14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B22-3405-4504-81EF-647F4630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0D7-6245-41D6-9630-9B47D645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837-2233-4F2B-849A-C9EC5E34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5F0-4D19-43CF-8399-176EBF82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517-47A7-413F-8078-64E2D1DB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509-E441-4A3E-987A-A424D9BF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0A4-664B-4B11-B6B8-03E202E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9C9-BB70-412D-A773-1BC83737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5D0-4FEA-4634-B1D8-C4E1FA4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BB9-8780-4E0F-9906-1A8A929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6BB-D98B-4C9F-BBA8-F89974A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9D5B-EF0C-4F1C-BC59-495705368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nglishrussia.com/images/weird_russian_matreshkas/1.jpg&amp;imgrefurl=http://englishrussia.com/index.php/2007/09/11/weird-looking-russian-matryoshkas/&amp;usg=__skfFu8W5R2cT_CUFGKa9q4hcNM4=&amp;h=376&amp;w=500&amp;sz=34&amp;hl=en&amp;start=1&amp;zoom=1&amp;um=1&amp;itbs=1&amp;tbnid=txzzrHkzS-R3ZM:&amp;tbnh=98&amp;tbnw=130&amp;prev=/images%3Fq%3Drussian%2Bculture%26um%3D1%26hl%3Den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red-october.net/wp-content/uploads/2008/12/russian-ballet.jpg&amp;imgrefurl=http://www.red-october.net/2006/05/music-and-the-arts/&amp;usg=__PW1f6lpxsuCzFu1LvhD58omappU=&amp;h=343&amp;w=300&amp;sz=18&amp;hl=en&amp;start=1&amp;zoom=1&amp;um=1&amp;itbs=1&amp;tbnid=eYsBw0CRE2UqvM:&amp;tbnh=120&amp;tbnw=105&amp;prev=/images%3Fq%3Drussian%2Bballet%26um%3D1%26hl%3Den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aytorussia.net/userfiles/image/WhatIsRussia/RussianFood/Soups/borcsh.jpg&amp;imgrefurl=http://www.waytorussia.net/WhatIsRussia/RussianFood/Soups.html&amp;usg=__1eZRkBcoQgEBanWZV-_x5Gvgu7o=&amp;h=180&amp;w=200&amp;sz=24&amp;hl=en&amp;start=2&amp;zoom=1&amp;um=1&amp;itbs=1&amp;tbnid=ufnK1SDSZo40cM:&amp;tbnh=94&amp;tbnw=104&amp;prev=/images%3Fq%3Dtraditional%2Brussian%2Bfood%26um%3D1%26hl%3Den%26sa%3DX%26tbs%3Disch: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ulia Cassetta &amp; Clare Doh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24382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 rulers severe limits on reli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poke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aism , Islam, and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number practices Christian fa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religi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, art, and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lace to find Russian culture is St. Petersburg’s th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useum in St. Petersbu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ous poet Alexander Pushkin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 Tolstoy’s novel war and peace pro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4760" y="4876920"/>
            <a:ext cx="153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ears E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ay of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start with a soup called bors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 (turn over'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733920"/>
            <a:ext cx="2743200" cy="247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30290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43:35Z</dcterms:created>
  <dc:creator> </dc:creator>
  <dc:description/>
  <dc:language>en-US</dc:language>
  <cp:lastModifiedBy> </cp:lastModifiedBy>
  <dcterms:modified xsi:type="dcterms:W3CDTF">2010-12-14T17:15:48Z</dcterms:modified>
  <cp:revision>4</cp:revision>
  <dc:subject/>
  <dc:title>Culture</dc:title>
</cp:coreProperties>
</file>